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B4E-50B5-40CB-AC36-6CD9DD2E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B03-CDE1-49A2-86AD-741F914F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32A-71DB-4DBD-B375-69CAFCC2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405-5819-4B48-9BFD-D3A79EC9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3BD-3D6A-4B7D-B731-91A625B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42D-2A8C-4DA1-A065-CCE59391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5B25-C374-4BBE-8339-934DA83B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6342-72BE-44B8-BE49-1BAF926F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7C6-05C0-4A45-966D-92588C45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801-20B9-4330-A6D6-2F611D9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DAA-69C6-4D68-8D95-F04276B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5F7-3EFD-4777-83AF-6DE79CE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A9F2E-9B55-4862-98FE-F3D6E9CB1A5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Niveles y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de entrada y salida rara vez están balance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roducción de petroleo = Consu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tock de productos =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ibo del sueldo = gasto del Din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r eso existen las reservas, Entrada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Sal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an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od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reservas junto con sus mecanismos de regulación de entrada y salida de flu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 lo que es equiva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procesos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servas, Flujos y 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uando una reserva crece, decrece o es e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uy seguramente hay un mecanismo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hay un comportamiento que persiste  en el tiempo, hay un mecanismo que está creando este comport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El mecanismo es un  Bucle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: Cuenta Banc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stado de cuent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 Rese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es baj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Consigo más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Trabajo m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Dos maneras de estab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Conseguir más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ut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Gastar m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0000" y="2843280"/>
            <a:ext cx="49244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¿Pregunt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humana ocurre sin un bucle de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es realizada sin tener en cuenta información del nivel de la reserva que involuc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s comu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namo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eter Suici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En estos casos no hay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gla út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tiempo que toma a una reserva doblar su cantidad, es aprox igual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70/ (rata de creci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: $100 en un banco al 7%, en cuanto tiempo tengo $2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:  70/ 7 = 10 año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empre que observe que A causa B, piense en como B puede a su vez afectar a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el crecimiento de población produce pobreza, cómo la pobreza puede producir crecimi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troalimentación induce a la idea de que un sistema puede causar su propio comportamiento ( no culpar a los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 : ¿Quién es el culp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ueva Pregunta: ¿Cuál es el sist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de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19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acimientos, mu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ompras,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, deca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pósitos,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xitos, frac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es la memoria presente de la historia de los cambios de flujo a través de un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1: Mina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 depósito de mineral es una reser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 ella sale un flujo  (Producción de la 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flujo de entrada toma siglos en produci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00360" y="4140360"/>
            <a:ext cx="561636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2  Agua en una repres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1640" y="2700360"/>
            <a:ext cx="907416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3 : Madera en un Bosqu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0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3280" y="1908000"/>
            <a:ext cx="914544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Nivel de agua cuando se quita el t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0360" y="1763640"/>
            <a:ext cx="900108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226656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bre el tapón y luego se abre el gri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280" y="1979640"/>
            <a:ext cx="90691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4920" y="220032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19280" y="1908000"/>
            <a:ext cx="45752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enfocarse en reservas que en fl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flujos de entrada que de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lenar una bañ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umentando el flujo del gr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Disminuyendo el tamaño del tá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Fuerza de trabajo en una emp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s trabaj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duciendo los desp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toma tiempo en camb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toman tiempo en fl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ervas cambian lent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Vaciar una bañ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recimiento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adera en un b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uperar la capa de oz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9:48:36Z</dcterms:created>
  <dc:creator>alf </dc:creator>
  <dc:description/>
  <dc:language>en-US</dc:language>
  <cp:lastModifiedBy>alf </cp:lastModifiedBy>
  <dcterms:modified xsi:type="dcterms:W3CDTF">2012-03-12T19:49:26Z</dcterms:modified>
  <cp:revision>2</cp:revision>
  <dc:subject/>
  <dc:title/>
</cp:coreProperties>
</file>